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F597B-0B9C-4FE9-AFA2-1F7A7C14F9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F7CC-B004-45C3-8BAF-3F820C094E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Влияние алкоголя на кровеносную сист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8DAEB-D59C-45F9-9D31-359E4F2196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71C7-A733-40D3-92E8-1373DE8C7C5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1C7C6-D740-4606-BC88-B699B8B369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C234-FCD0-417D-ADA9-BBA317C1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E96C8-9A79-4393-9DF2-DA9C2067B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907D16-286C-4E8A-83D9-FDF6CDA5C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27927-D6DE-4174-875E-3BAA0C737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D7BB2B-6C7E-4880-8D99-77087179D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7A07B-C103-4D32-B4E6-160460403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3A4955-7BD0-4089-B61E-04264CC7D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92CD8C-CFB3-40CB-B2F0-20971C48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3EC0A-6235-4F87-9796-17E1B9D72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79C2BB-2F35-458D-ABBA-7B64D6DD5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BC736-EA70-4F35-882C-423EE3F8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B8BC-FC46-455A-98DF-4CE833EF4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DE18-D50D-49E7-8DEC-B399625AB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5D718-D862-4728-9435-5DAEB60D1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A923E-C2CD-4A9B-9534-F0024458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2C2BA-DF42-4449-A5B4-EF9B3710A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B8DFB-27D5-40D0-86A3-9C03D42BB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83850D-66B3-4EBF-A498-428890A93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D77F1-0C20-4DA1-BAA3-6ACBD7053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57D0-6C33-4340-9FBF-BCC6D49B3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32A2-79CC-4B0D-8637-8C41FD468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8BF52-A120-46E1-82FF-49D97978E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3839-E132-4151-BC26-B5386B92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E2C5A-2FBF-436C-A09E-3785EBC81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57E05-F62D-4AD7-A73B-599E4FC94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DA31D-BF58-45F4-AF20-6BFB2E953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771D4-22B5-421E-AA3B-321122D7B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4D83D-7AC0-433A-8660-81EA67F90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1668BA-2344-4303-90E8-89941DA5E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F11C5-C610-4470-A893-9DD9A6A0B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51AA13-CA67-4F9D-86BD-261FFE34E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EBF2F-6F95-4538-83B9-40B5E0F5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FBCBA8-804F-4789-941E-17B7322C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7BB97-3B2F-4A69-9203-11FECB671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B355EF-8E46-41F5-AA30-A4A69EBD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9B8B6-1BD2-4A82-B2A7-BA2CC901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CED02-2298-4BA9-94FA-D4519917F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5E0A7A-891E-4F6A-B6A3-047FC44D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75B404-82C3-4906-A75A-F722FF28B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C20D3-E782-4923-9DF9-DFD631A4FF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ECDF3E-7B6D-479B-AE8F-3AD9F7C09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9E51B-8755-41A7-A2FB-A08EDBD9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1ED2-B931-4BD4-A0AF-5A5675BE5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F095E-EF21-4A97-8627-9E68F4E1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A050F-8FDE-418D-8922-45D1FAD6A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BA09F8-9AD8-4EAB-A411-F68D02822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EE1D3-AD0C-4FA8-B9CB-FB22F173A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63137-9A09-48C7-B566-7DB0FB4A3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150CA-1148-4F66-A1C6-E6C38E20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E52354-2B46-40FB-87CD-F404839FD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74A2B4-0A23-48C7-A9A6-EE36990C6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024CEF-7F09-48AA-B9FE-64E2F1301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D231D4-B3DD-4BA4-96A5-11C944DEA7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D617-1ECA-4F8B-921E-9F9D9CC74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8F61DA-501D-4375-B3E0-EE8F2778C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A48022-98EE-4C2C-A087-E5B458746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923868-5791-4B58-AFD6-F7C13F1DD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8A3D81-BAAF-4F6F-ABE1-17D859179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7192CD-D895-4A2C-9E37-6A21FAA29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03923-969D-4154-BC60-048CE511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340E3E-E252-4745-A6E9-8BE0A2AB6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FE701A-669A-4EAC-BDB3-E4F0CD169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92B1A-F3C4-4BE0-BA7E-524EF0ED8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A68CC-75E3-42D5-893D-599C26AA7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2EA3-AE58-4559-BF9D-588233B95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282AB5-EFF1-46C0-A50F-F3635C162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A28039-B57E-4578-894F-EDDADA1D2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44ACA-94AD-488C-AA87-565130278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23635B-0EA6-490A-9826-622E420A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9EC58-047A-4335-AD97-C7F63D20A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AC3B61-4E45-4D4E-8771-E16A1D0B0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BEEE88-A4F3-4AF5-9612-BD6E86DD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A4F62C-1EC3-4B10-AE33-D1E5AF2E2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5A5428-E82C-4EEC-9785-895ED9E8A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394170-9D08-4788-822C-AAA7F266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07CA-A037-4081-8ED0-EA13D2CE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5780F5-92C4-4032-9A87-866D7E29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9F8932-B700-468E-8BC7-B982EBAC0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558566-050D-4E22-8391-722615139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5F84E9-6C3E-436E-AA45-A4BEDB405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C91D4-512B-4960-9108-F3B661006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C9C63D-4CA9-4874-8DA5-ABAB04309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C34136-9458-423C-BA7C-CADE6025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A36F41-0230-4198-8E0E-C4D146FAC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2FFBB2-269F-4BDA-9101-4B33951C4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A28D27-096E-4B37-B7DD-A12B68382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970A-E608-48C3-9879-D11B861A2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08C2B8-8C22-4ABC-A177-2638B6DC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B51244-96CB-407E-ACE1-7152D639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DE6D7C-4631-42BA-A919-AFBE46311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C0A808-ABAE-45E2-ABE5-48133E203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47072A-725E-4976-AA74-50DDD5B8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87545-3B8B-4615-A848-6BB6E611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118EA0-AE56-4965-AB55-41CF38A9D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947407-AE48-44BC-9AF1-A40778C7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007DB1-3AE8-46D4-BB64-1A8F3E07F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68717E-2997-41C8-AE95-CC92C8B0C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EC8C-351F-4C7F-B650-B28C681F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05F99-5CA4-48BF-9638-B6DD81A51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52D77A-956E-4170-BEDB-54C1DCC93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461AA2-51AF-42D6-8118-DE57C1D7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1CE4DB-722E-4311-A1F4-266D9B93B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C968CB-4A99-40AF-8CE4-F09B7E8DD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681917-5114-4AC1-ACB2-0C6F79A92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E55A7-A7EA-42AD-8269-8C39F9BBE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7E48C3-14F9-422A-B241-6A3ABB871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7984C0-DB86-4276-BF39-903A71C1A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E069CA-6F78-44C2-80B8-6D68ADF0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640F2-FCEB-4E54-876E-05E9B91AEAB7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A5E9-FBDD-45B2-B7C2-E55719CDF32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4E00-1F92-4660-A31F-C1F094E8BBF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D6E9E-A98D-49C3-AA99-C82E011B563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2A6C-C55B-4E4B-93C1-C2DE32A6C9CF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43C2-37D2-4D0C-83CF-90DE2E1E0F5B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D62BF-ED5B-486B-924A-036190E4018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50449-A648-47D1-BC5B-CDC76AB0418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60051-B358-40DA-888E-FC1791C9CCFD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-6480" y="-792000"/>
            <a:ext cx="9156960" cy="6229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6720840"/>
            <a:ext cx="85010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Сердце 3"/>
          <p:cNvSpPr/>
          <p:nvPr/>
        </p:nvSpPr>
        <p:spPr>
          <a:xfrm>
            <a:off x="6215040" y="1500120"/>
            <a:ext cx="2714760" cy="2643120"/>
          </a:xfrm>
          <a:prstGeom prst="pi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285840" y="-428760"/>
            <a:ext cx="557208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10" name="WordArt 6" descr=""/>
          <p:cNvPicPr/>
          <p:nvPr/>
        </p:nvPicPr>
        <p:blipFill>
          <a:blip r:embed="rId6"/>
          <a:stretch/>
        </p:blipFill>
        <p:spPr>
          <a:xfrm>
            <a:off x="-6480" y="1060560"/>
            <a:ext cx="5943600" cy="4194000"/>
          </a:xfrm>
          <a:prstGeom prst="rect">
            <a:avLst/>
          </a:prstGeom>
          <a:ln w="0">
            <a:noFill/>
          </a:ln>
        </p:spPr>
      </p:pic>
      <p:sp>
        <p:nvSpPr>
          <p:cNvPr id="411" name="WordArt 7"/>
          <p:cNvSpPr txBox="1"/>
          <p:nvPr/>
        </p:nvSpPr>
        <p:spPr>
          <a:xfrm>
            <a:off x="4572000" y="5929200"/>
            <a:ext cx="43578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Мокринская В. М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2" name="Прямоугольник 9" descr=""/>
          <p:cNvPicPr/>
          <p:nvPr/>
        </p:nvPicPr>
        <p:blipFill>
          <a:blip r:embed="rId7"/>
          <a:stretch/>
        </p:blipFill>
        <p:spPr>
          <a:xfrm>
            <a:off x="-6480" y="5224320"/>
            <a:ext cx="501192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11" descr=""/>
          <p:cNvPicPr/>
          <p:nvPr/>
        </p:nvPicPr>
        <p:blipFill>
          <a:blip r:embed="rId8"/>
          <a:stretch/>
        </p:blipFill>
        <p:spPr>
          <a:xfrm>
            <a:off x="4853160" y="5029200"/>
            <a:ext cx="42973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4cc4"/>
                </a:solidFill>
                <a:latin typeface="Arial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1569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214800" y="292896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6"/>
          <p:cNvSpPr/>
          <p:nvPr/>
        </p:nvSpPr>
        <p:spPr>
          <a:xfrm flipV="1" rot="10800000">
            <a:off x="3071880" y="240120"/>
            <a:ext cx="27144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7"/>
          <p:cNvSpPr/>
          <p:nvPr/>
        </p:nvSpPr>
        <p:spPr>
          <a:xfrm flipV="1" rot="10800000">
            <a:off x="571320" y="159120"/>
            <a:ext cx="221436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0"/>
          <p:cNvSpPr/>
          <p:nvPr/>
        </p:nvSpPr>
        <p:spPr>
          <a:xfrm>
            <a:off x="6357960" y="214200"/>
            <a:ext cx="235728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2"/>
          <p:cNvSpPr/>
          <p:nvPr/>
        </p:nvSpPr>
        <p:spPr>
          <a:xfrm flipV="1" rot="10800000">
            <a:off x="5929200" y="1018080"/>
            <a:ext cx="32148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гиподина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214960" y="4714920"/>
            <a:ext cx="364320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атеросклер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7"/>
          <p:cNvSpPr/>
          <p:nvPr/>
        </p:nvSpPr>
        <p:spPr>
          <a:xfrm>
            <a:off x="2714760" y="5643720"/>
            <a:ext cx="42145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тромбофлеб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1"/>
          <p:cNvSpPr/>
          <p:nvPr/>
        </p:nvSpPr>
        <p:spPr>
          <a:xfrm>
            <a:off x="214200" y="1000080"/>
            <a:ext cx="22860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9"/>
          <p:cNvSpPr/>
          <p:nvPr/>
        </p:nvSpPr>
        <p:spPr>
          <a:xfrm flipV="1" rot="10800000">
            <a:off x="285840" y="4857840"/>
            <a:ext cx="328608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гипертони</a:t>
            </a:r>
            <a:r>
              <a:rPr b="1" lang="ru-RU" sz="3600" spc="-1" strike="noStrike">
                <a:solidFill>
                  <a:srgbClr val="c20e86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9"/>
          <p:cNvSpPr/>
          <p:nvPr/>
        </p:nvSpPr>
        <p:spPr>
          <a:xfrm>
            <a:off x="6215040" y="3429000"/>
            <a:ext cx="24289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инсуль</a:t>
            </a: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41"/>
          <p:cNvSpPr/>
          <p:nvPr/>
        </p:nvSpPr>
        <p:spPr>
          <a:xfrm>
            <a:off x="285840" y="3071880"/>
            <a:ext cx="2500200" cy="1312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Инфаркт миока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3"/>
          <p:cNvSpPr/>
          <p:nvPr/>
        </p:nvSpPr>
        <p:spPr>
          <a:xfrm>
            <a:off x="2071800" y="1785960"/>
            <a:ext cx="5286240" cy="1068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20e86"/>
                </a:solidFill>
                <a:latin typeface="Arial"/>
              </a:rPr>
              <a:t>Сердечно- сосудистые           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право 45"/>
          <p:cNvSpPr/>
          <p:nvPr/>
        </p:nvSpPr>
        <p:spPr>
          <a:xfrm flipV="1" rot="5400000">
            <a:off x="3870360" y="1298520"/>
            <a:ext cx="642960" cy="460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Стрелка вниз 46"/>
          <p:cNvSpPr/>
          <p:nvPr/>
        </p:nvSpPr>
        <p:spPr>
          <a:xfrm rot="18429000">
            <a:off x="3157200" y="656640"/>
            <a:ext cx="55800" cy="1138320"/>
          </a:xfrm>
          <a:prstGeom prst="downArrow">
            <a:avLst>
              <a:gd name="adj1" fmla="val 50000"/>
              <a:gd name="adj2" fmla="val 4977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Стрелка вправо 47"/>
          <p:cNvSpPr/>
          <p:nvPr/>
        </p:nvSpPr>
        <p:spPr>
          <a:xfrm flipV="1" rot="2161800">
            <a:off x="2606760" y="1305000"/>
            <a:ext cx="572760" cy="6336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трелка влево 48"/>
          <p:cNvSpPr/>
          <p:nvPr/>
        </p:nvSpPr>
        <p:spPr>
          <a:xfrm rot="19444800">
            <a:off x="4838760" y="1068480"/>
            <a:ext cx="1587600" cy="46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трелка влево 49"/>
          <p:cNvSpPr/>
          <p:nvPr/>
        </p:nvSpPr>
        <p:spPr>
          <a:xfrm flipV="1" rot="19713600">
            <a:off x="5181120" y="1418400"/>
            <a:ext cx="538560" cy="46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трелка вправо 53"/>
          <p:cNvSpPr/>
          <p:nvPr/>
        </p:nvSpPr>
        <p:spPr>
          <a:xfrm flipV="1">
            <a:off x="2857680" y="3786120"/>
            <a:ext cx="285480" cy="4608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трелка влево 54"/>
          <p:cNvSpPr/>
          <p:nvPr/>
        </p:nvSpPr>
        <p:spPr>
          <a:xfrm flipV="1">
            <a:off x="5643720" y="3882960"/>
            <a:ext cx="428400" cy="46080"/>
          </a:xfrm>
          <a:prstGeom prst="leftArrow">
            <a:avLst>
              <a:gd name="adj1" fmla="val 50000"/>
              <a:gd name="adj2" fmla="val 499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трелка вверх 55"/>
          <p:cNvSpPr/>
          <p:nvPr/>
        </p:nvSpPr>
        <p:spPr>
          <a:xfrm rot="2826600">
            <a:off x="2829600" y="4308840"/>
            <a:ext cx="52560" cy="457200"/>
          </a:xfrm>
          <a:prstGeom prst="upArrow">
            <a:avLst>
              <a:gd name="adj1" fmla="val 50000"/>
              <a:gd name="adj2" fmla="val 4985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верх 56"/>
          <p:cNvSpPr/>
          <p:nvPr/>
        </p:nvSpPr>
        <p:spPr>
          <a:xfrm>
            <a:off x="4429080" y="4643280"/>
            <a:ext cx="46080" cy="85752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лево 57"/>
          <p:cNvSpPr/>
          <p:nvPr/>
        </p:nvSpPr>
        <p:spPr>
          <a:xfrm flipV="1" rot="2052000">
            <a:off x="5927400" y="4392360"/>
            <a:ext cx="550800" cy="46080"/>
          </a:xfrm>
          <a:prstGeom prst="leftArrow">
            <a:avLst>
              <a:gd name="adj1" fmla="val 50000"/>
              <a:gd name="adj2" fmla="val 4997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722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6"/>
          <p:cNvSpPr/>
          <p:nvPr/>
        </p:nvSpPr>
        <p:spPr>
          <a:xfrm>
            <a:off x="1500120" y="1285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357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785880" y="6072120"/>
            <a:ext cx="214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-428760" y="-500040"/>
            <a:ext cx="9786960" cy="7643880"/>
          </a:xfrm>
          <a:prstGeom prst="rect">
            <a:avLst/>
          </a:prstGeom>
          <a:ln w="0">
            <a:noFill/>
          </a:ln>
        </p:spPr>
      </p:pic>
      <p:cxnSp>
        <p:nvCxnSpPr>
          <p:cNvPr id="470" name="Прямая со стрелкой 10"/>
          <p:cNvCxnSpPr/>
          <p:nvPr/>
        </p:nvCxnSpPr>
        <p:spPr>
          <a:xfrm flipV="1">
            <a:off x="571680" y="1285560"/>
            <a:ext cx="2160" cy="21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71" name="TextBox 9"/>
          <p:cNvSpPr/>
          <p:nvPr/>
        </p:nvSpPr>
        <p:spPr>
          <a:xfrm>
            <a:off x="6715080" y="6429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9156960" cy="1603080"/>
          </a:xfrm>
          <a:prstGeom prst="rect">
            <a:avLst/>
          </a:prstGeom>
          <a:ln w="0">
            <a:noFill/>
          </a:ln>
        </p:spPr>
      </p:pic>
      <p:sp>
        <p:nvSpPr>
          <p:cNvPr id="476" name="TextBox 6"/>
          <p:cNvSpPr/>
          <p:nvPr/>
        </p:nvSpPr>
        <p:spPr>
          <a:xfrm>
            <a:off x="3214800" y="1643040"/>
            <a:ext cx="257148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Физически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 flipV="1" rot="10800000">
            <a:off x="6072120" y="1606320"/>
            <a:ext cx="264312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Активный обра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2"/>
          <p:cNvSpPr/>
          <p:nvPr/>
        </p:nvSpPr>
        <p:spPr>
          <a:xfrm>
            <a:off x="2643120" y="5214960"/>
            <a:ext cx="407196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c4c2c"/>
                </a:solidFill>
                <a:uFillTx/>
                <a:latin typeface="Arial"/>
              </a:rPr>
              <a:t>Это способствует укреплению сердечной мыш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4"/>
          <p:cNvSpPr/>
          <p:nvPr/>
        </p:nvSpPr>
        <p:spPr>
          <a:xfrm>
            <a:off x="357120" y="1643040"/>
            <a:ext cx="242892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Посильный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2322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7"/>
          <p:cNvSpPr/>
          <p:nvPr/>
        </p:nvSpPr>
        <p:spPr>
          <a:xfrm flipV="1" rot="10800000">
            <a:off x="428400" y="3179520"/>
            <a:ext cx="407196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величивается объем крови, протекающей через сердечную мыш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9"/>
          <p:cNvSpPr/>
          <p:nvPr/>
        </p:nvSpPr>
        <p:spPr>
          <a:xfrm>
            <a:off x="5000760" y="2786040"/>
            <a:ext cx="3571920" cy="2226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лучшается снабжение сердца кислородом и питатель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Выгнутая влево стрелка 18"/>
          <p:cNvSpPr/>
          <p:nvPr/>
        </p:nvSpPr>
        <p:spPr>
          <a:xfrm rot="18385200">
            <a:off x="502560" y="4426560"/>
            <a:ext cx="1050840" cy="2795400"/>
          </a:xfrm>
          <a:custGeom>
            <a:avLst/>
            <a:gdLst>
              <a:gd name="textAreaLeft" fmla="*/ 140760 w 1050840"/>
              <a:gd name="textAreaRight" fmla="*/ 910080 w 1050840"/>
              <a:gd name="textAreaTop" fmla="*/ 600120 h 2795400"/>
              <a:gd name="textAreaBottom" fmla="*/ 2063880 h 27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78" stAng="-5400000" swAng="-5400000"/>
                <a:lnTo>
                  <a:pt x="0" y="11308"/>
                </a:lnTo>
                <a:arcTo wR="21600" hR="9278" stAng="10800000" swAng="-3539289"/>
                <a:lnTo>
                  <a:pt x="16200" y="21305"/>
                </a:lnTo>
                <a:lnTo>
                  <a:pt x="21600" y="19570"/>
                </a:lnTo>
                <a:lnTo>
                  <a:pt x="16200" y="17245"/>
                </a:lnTo>
                <a:lnTo>
                  <a:pt x="16200" y="18260"/>
                </a:lnTo>
                <a:arcTo wR="21600" hR="9278" stAng="7260711" swAng="3376892"/>
                <a:lnTo>
                  <a:pt x="130" y="10293"/>
                </a:lnTo>
                <a:arcTo wR="21600" hR="9278" stAng="-10637603" swAng="5237603"/>
                <a:close/>
              </a:path>
              <a:path fill="darkenLess" w="21600" h="21600">
                <a:moveTo>
                  <a:pt x="21600" y="0"/>
                </a:moveTo>
                <a:arcTo wR="21600" hR="9278" stAng="-5400000" swAng="-5400000"/>
                <a:lnTo>
                  <a:pt x="0" y="9278"/>
                </a:lnTo>
                <a:arcTo wR="21600" hR="9278" stAng="10800000" swAng="-162397"/>
                <a:lnTo>
                  <a:pt x="130" y="10293"/>
                </a:lnTo>
                <a:arcTo wR="21600" hR="9278" stAng="-10637603" swAng="5237603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Выгнутая вправо стрелка 19"/>
          <p:cNvSpPr/>
          <p:nvPr/>
        </p:nvSpPr>
        <p:spPr>
          <a:xfrm rot="3010200">
            <a:off x="7541640" y="4733640"/>
            <a:ext cx="866880" cy="2514600"/>
          </a:xfrm>
          <a:custGeom>
            <a:avLst/>
            <a:gdLst>
              <a:gd name="textAreaLeft" fmla="*/ 115920 w 866880"/>
              <a:gd name="textAreaRight" fmla="*/ 750960 w 866880"/>
              <a:gd name="textAreaTop" fmla="*/ 547200 h 2514600"/>
              <a:gd name="textAreaBottom" fmla="*/ 1859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3559782"/>
                <a:lnTo>
                  <a:pt x="5400" y="21301"/>
                </a:lnTo>
                <a:lnTo>
                  <a:pt x="0" y="19739"/>
                </a:lnTo>
                <a:lnTo>
                  <a:pt x="5400" y="17578"/>
                </a:lnTo>
                <a:lnTo>
                  <a:pt x="5400" y="18509"/>
                </a:lnTo>
                <a:arcTo wR="21600" hR="9404" stAng="3559782" swAng="-3411051"/>
                <a:lnTo>
                  <a:pt x="21494" y="10335"/>
                </a:lnTo>
                <a:arcTo wR="21600" hR="9404" stAng="-148731" swAng="-5251269"/>
                <a:close/>
              </a:path>
              <a:path fill="darkenLess"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-148731"/>
                <a:lnTo>
                  <a:pt x="21494" y="10335"/>
                </a:lnTo>
                <a:arcTo wR="21600" hR="9404" stAng="-148731" swAng="-525126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428760" y="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Приемы остановки кровот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0" y="642960"/>
            <a:ext cx="9144000" cy="74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Капилляр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Обработайте края  раны й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трежьте квадратный кусок бинта и сложите его вчетверо. Нанесите на сложенный бинт мазь и приложите к ране, сверху положите вату и сделайте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Артериаль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Алая кровь. Текущая пульсирующей струй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Необходимо наложить жгут. Он накладывается на одежду или (кусок ткани).чтобы не повредить кожу, выше 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Сделайте жгутом 2-3 оборота, пока не перестанет прощупываться пульсация. Жгут накладывают на  1,5-2 ч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ложить записку с обозначением времени наложения жг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На рану- стерильная повязка.  Пострадавшего доставить в бо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20e86"/>
                </a:solidFill>
                <a:latin typeface="Arial"/>
              </a:rPr>
              <a:t>Венозное кровотечение.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емная кровь, вытекающая непрерывной стру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При повреждении крупного венозного сосуда наложите ж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ри повреждении мелкого сосуда- давящую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6"/>
          <p:cNvSpPr/>
          <p:nvPr/>
        </p:nvSpPr>
        <p:spPr>
          <a:xfrm>
            <a:off x="714240" y="114300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34b38"/>
                </a:solidFill>
                <a:uFillTx/>
                <a:latin typeface="Franklin Gothic Book"/>
              </a:rPr>
              <a:t>ЗАД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0" y="185724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ВИЖЕНИЕ КРОВИ ПО КРОВЕНОСНЫМ СОСУД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АМЫЙ КРУПНЫЙ СОСУ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АСН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ОВЬ, НАСЫЩЕННАЯ УГЛЕКИСЛЫМ ГАЗ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УТЬ КРОВИ ОТ ЛЕВОГО ЖЕЛУДОЧКА ДО ПРАВОГО ПРЕДСЕРД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ЕЛ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8" descr=""/>
          <p:cNvPicPr/>
          <p:nvPr/>
        </p:nvPicPr>
        <p:blipFill>
          <a:blip r:embed="rId1"/>
          <a:stretch/>
        </p:blipFill>
        <p:spPr>
          <a:xfrm>
            <a:off x="706320" y="-212760"/>
            <a:ext cx="84441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2"/>
          <p:cNvSpPr/>
          <p:nvPr/>
        </p:nvSpPr>
        <p:spPr>
          <a:xfrm>
            <a:off x="0" y="0"/>
            <a:ext cx="91440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7. ПРЕПАРАТ ИЗ УБИТЫХ ИЛИ ОСЛАБЛЕННЫХ МИКРООРГАНИЗМ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8. СПОСОБНОСТЬ ОРГАНИЗМА ЗАЩИЩАТЬСЯ ОТ ИНФЕКЦИОННОГО ВОЗДЕЙСТВ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9.КРОВЕНОСНЫЕ СОСУДЫ, ПО КОТОРЫМ КРОВЬ ДВИЖЕТСЯ К СЕРДЦ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0.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еловек, предоставляющий часть сво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КРОВИ ДЛЯ ПЕРЕЛИВ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1. ВЕЩЕСТВО, ВХОДЯЩЕЕ В СОСТАВ ЭРИТРОЦИТ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2. ЖИДКАЯ ЧАСТЬ КРОВ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3. ГРУППА КРОВИ УНИВЕРСИЛЬНОГО ДОНО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3"/>
          <p:cNvSpPr/>
          <p:nvPr/>
        </p:nvSpPr>
        <p:spPr>
          <a:xfrm>
            <a:off x="0" y="0"/>
            <a:ext cx="914400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Кровь, насыщенная кислород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Периодическое толчкообраз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бание стенки аорты, синхронно сокращению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 Путь от правого желудочка до левого предсерд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. Сосуды, несущие кровь от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.Вещества, вырабатываемые лейкоцитами на чужеродный бел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Явление склеивания эритроцит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4500720" y="685800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7" descr=""/>
          <p:cNvPicPr/>
          <p:nvPr/>
        </p:nvPicPr>
        <p:blipFill>
          <a:blip r:embed="rId1"/>
          <a:stretch/>
        </p:blipFill>
        <p:spPr>
          <a:xfrm>
            <a:off x="-262080" y="109440"/>
            <a:ext cx="9412560" cy="851076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442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8637840" cy="11397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4"/>
          <p:cNvSpPr/>
          <p:nvPr/>
        </p:nvSpPr>
        <p:spPr>
          <a:xfrm flipV="1" rot="10800000">
            <a:off x="0" y="8211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Эритроциты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ные кровяные клетки.  Они очень малы. В 1 кубическом  мм их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5 млн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елые эритроциты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не имеют ядер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клетки 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двояковогнут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ы, не способны к самостоятельному движению. Внутри клеток  находиться гемоглобин – соединение белка и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желе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ритроциты зарожд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красном костном мозг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разруш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селезенке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функция эритроцитов- транспорт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газ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болевание, связанное с уменьшением количества эритроцитов в крови, называется 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малокровием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(анеми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Блок-схема: магнитный диск 1"/>
          <p:cNvSpPr/>
          <p:nvPr/>
        </p:nvSpPr>
        <p:spPr>
          <a:xfrm>
            <a:off x="2071800" y="2000160"/>
            <a:ext cx="2357280" cy="314352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У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Загнутый угол 6"/>
          <p:cNvSpPr/>
          <p:nvPr/>
        </p:nvSpPr>
        <p:spPr>
          <a:xfrm>
            <a:off x="5429160" y="1928880"/>
            <a:ext cx="2214720" cy="2857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олоко 1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4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рямоугольник 7" descr=""/>
          <p:cNvPicPr/>
          <p:nvPr/>
        </p:nvPicPr>
        <p:blipFill>
          <a:blip r:embed="rId1"/>
          <a:stretch/>
        </p:blipFill>
        <p:spPr>
          <a:xfrm>
            <a:off x="-244440" y="1463760"/>
            <a:ext cx="2475000" cy="19684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317520" y="19447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249120" y="1938240"/>
            <a:ext cx="1433520" cy="12859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3"/>
          <p:cNvSpPr/>
          <p:nvPr/>
        </p:nvSpPr>
        <p:spPr>
          <a:xfrm>
            <a:off x="428760" y="364320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7715160" y="1714680"/>
            <a:ext cx="10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5"/>
          <p:cNvSpPr/>
          <p:nvPr/>
        </p:nvSpPr>
        <p:spPr>
          <a:xfrm>
            <a:off x="7786800" y="371484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гнутая вверх стрелка 16"/>
          <p:cNvSpPr/>
          <p:nvPr/>
        </p:nvSpPr>
        <p:spPr>
          <a:xfrm rot="13042800">
            <a:off x="6352920" y="4572720"/>
            <a:ext cx="1842840" cy="730440"/>
          </a:xfrm>
          <a:custGeom>
            <a:avLst/>
            <a:gdLst>
              <a:gd name="textAreaLeft" fmla="*/ 392040 w 1842840"/>
              <a:gd name="textAreaRight" fmla="*/ 1359360 w 184284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6" hR="21600" stAng="10800000" swAng="5400000"/>
                <a:lnTo>
                  <a:pt x="11335" y="0"/>
                </a:lnTo>
                <a:arcTo wR="9196" hR="21600" stAng="-5400000" swAng="3525784"/>
                <a:lnTo>
                  <a:pt x="21308" y="16200"/>
                </a:lnTo>
                <a:lnTo>
                  <a:pt x="19461" y="21600"/>
                </a:lnTo>
                <a:lnTo>
                  <a:pt x="17029" y="16200"/>
                </a:lnTo>
                <a:lnTo>
                  <a:pt x="18099" y="16200"/>
                </a:lnTo>
                <a:arcTo wR="9196" hR="21600" stAng="-1874216" swAng="-3354547"/>
                <a:lnTo>
                  <a:pt x="10265" y="147"/>
                </a:lnTo>
                <a:arcTo wR="9196" hR="21600" stAng="-5571238" swAng="-5228762"/>
                <a:close/>
              </a:path>
              <a:path fill="darkenLess" w="21600" h="21600">
                <a:moveTo>
                  <a:pt x="0" y="21600"/>
                </a:moveTo>
                <a:arcTo wR="9196" hR="21600" stAng="10800000" swAng="5400000"/>
                <a:lnTo>
                  <a:pt x="9196" y="0"/>
                </a:lnTo>
                <a:arcTo wR="9196" hR="21600" stAng="-5400000" swAng="171238"/>
                <a:lnTo>
                  <a:pt x="10265" y="147"/>
                </a:lnTo>
                <a:arcTo wR="9196" hR="21600" stAng="-5571238" swAng="-5228762"/>
                <a:close/>
              </a:path>
            </a:pathLst>
          </a:custGeom>
          <a:solidFill>
            <a:srgbClr val="0d0d0d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7748640" y="3876840"/>
            <a:ext cx="1139760" cy="149364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ая соединительная линия 19" descr=""/>
          <p:cNvPicPr/>
          <p:nvPr/>
        </p:nvPicPr>
        <p:blipFill>
          <a:blip r:embed="rId5"/>
          <a:stretch/>
        </p:blipFill>
        <p:spPr>
          <a:xfrm>
            <a:off x="7607160" y="3943440"/>
            <a:ext cx="1354320" cy="142056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13" descr=""/>
          <p:cNvPicPr/>
          <p:nvPr/>
        </p:nvPicPr>
        <p:blipFill>
          <a:blip r:embed="rId6"/>
          <a:stretch/>
        </p:blipFill>
        <p:spPr>
          <a:xfrm>
            <a:off x="493560" y="-225360"/>
            <a:ext cx="81932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-1719360" y="-6480"/>
            <a:ext cx="10442520" cy="30546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285840" y="3071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c7154"/>
                </a:solidFill>
                <a:latin typeface="Arial"/>
              </a:rPr>
              <a:t>(Что такое вакцина?  Кто впервые в мире применил вакцинацию? Зачем нужны прививки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42840" y="-6480"/>
            <a:ext cx="8955000" cy="1420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43:45Z</dcterms:created>
  <dc:creator>Admin</dc:creator>
  <dc:description/>
  <dc:language>en-US</dc:language>
  <cp:lastModifiedBy>Admin</cp:lastModifiedBy>
  <dcterms:modified xsi:type="dcterms:W3CDTF">2011-04-02T06:29:06Z</dcterms:modified>
  <cp:revision>172</cp:revision>
  <dc:subject/>
  <dc:title>Слайд 1</dc:title>
</cp:coreProperties>
</file>